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media/image4.jpeg" ContentType="image/jpeg"/>
  <Override PartName="/ppt/media/image5.jpeg" ContentType="image/jpeg"/>
  <Override PartName="/ppt/media/image6.gif" ContentType="image/gif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D5276-6C13-4C47-8A1D-5650B9BCC8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F6B13-9C5E-41EC-A0FE-25E07E876A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7E920-54BD-4F7B-811E-3CD2910C20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1262F-F027-4C5D-959C-E3ECC4F942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1200" spc="-1" strike="noStrike">
                <a:solidFill>
                  <a:srgbClr val="000000"/>
                </a:solidFill>
                <a:latin typeface="Arial"/>
                <a:ea typeface="SimSun"/>
              </a:rPr>
              <a:t>EQA program star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F188B-3424-42B5-80D9-0650E1A283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09F48-CCD2-4C3A-BD46-D7531CBA03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81325-F2EF-4B23-BB92-51DC5AEC1C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1388C-E489-4F3D-9DCD-5D6238D3ED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89E31-EC9F-4F7B-A14A-54A8076B45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BD420-952F-48DA-B581-AEF8C53534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48618-FF68-4AED-BD48-0B2A098B1C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FERENCE - Content sheet X- 10 : </a:t>
            </a:r>
            <a:r>
              <a:rPr b="1" lang="en-ZA" sz="1200" spc="-1" strike="noStrike">
                <a:solidFill>
                  <a:srgbClr val="000000"/>
                </a:solidFill>
                <a:latin typeface="Arial"/>
                <a:ea typeface="SimSun"/>
              </a:rPr>
              <a:t>EQA program starte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4D815B-ABAC-4367-891B-87CAAD1CCE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05D6A3-04F4-49A5-96CD-400D11E32C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8D3C1B-54EF-4A52-8E29-B12C70EA06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34587E-96B6-414E-955F-A283C8B42C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79DC8-8C66-4652-A846-F819C3D60C2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4BB77-EBFF-41E1-9C13-D9132715201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80D6D-7C29-415D-8A4C-44BFCC02B26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CEEA6-E8DF-48B6-B421-1B232076CAF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7683E-08AC-45C7-93BD-FFAA5A74715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B92B2-A9BD-4353-8DFC-540FE9B4A9B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96657-9E29-4AD1-8807-F9507C7C6EC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74E368-26EF-4575-89B8-5F02DFE0A3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58F6A-6119-4F25-9998-27BB5BE4E5A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BABC7-2A93-446E-AB1A-6BFA6128293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5E328-E7E8-4C59-A99D-916FCE3F762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31255-BBC3-4526-A0B7-8AE929A7CE6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78A86-D076-49C9-899B-7FD785DEEF0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B8AAD4-FBBA-4EF2-B6C6-E2665967C2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430D11-E9FB-46D4-8048-0B6E9DE615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407B94-3381-408B-9E67-5CE7A78468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021281-B8CF-446F-BFB8-884C4F56FF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4234AF-CB0D-442D-BB50-A2D4C4EEC5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62520B-FACE-4FC6-8D37-25C793A611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A61B6F-8553-4DA7-A03A-A2631CF3C2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533160" y="6095880"/>
            <a:ext cx="5105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24522-6A54-4730-8BF0-31CAB7C4494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C61C6-BD97-4FA8-9E2C-E60E4BA68B8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Verdana"/>
              </a:rPr>
              <a:t>EQA Scheme Organization</a:t>
            </a:r>
            <a:br>
              <a:rPr sz="5000"/>
            </a:b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F1008-3796-43BA-B365-62EB6420884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739280" cy="39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interests of the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aims and obj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confidentiality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acknowledg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conta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time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B421E9-3ED3-4D3F-9EA4-4D0C0977FEA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Monito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0773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commentaries, feedback re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“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reference” role of the EQA pro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comments and recommendations from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participating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best ways of solving 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best ways of recommending certain techn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990720" y="4267080"/>
            <a:ext cx="2514600" cy="18846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3505320" y="4343400"/>
            <a:ext cx="5105160" cy="16419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7d"/>
                </a:solidFill>
                <a:latin typeface="Verdana"/>
              </a:rPr>
              <a:t>Perfect is not too</a:t>
            </a:r>
            <a:r>
              <a:rPr b="0" lang="en-GB" sz="28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1" lang="en-GB" sz="2800" spc="-1" strike="noStrike">
                <a:solidFill>
                  <a:srgbClr val="00007d"/>
                </a:solidFill>
                <a:latin typeface="Verdana"/>
              </a:rPr>
              <a:t>much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BE84AE-A94B-4258-8369-1654A9A97E7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86104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36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33160" y="1828800"/>
            <a:ext cx="8103960" cy="41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be already controlled by a international EQA organiz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involve the author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simp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sm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with non-contaminating mater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with a 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with a good communication strateg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pay careful attention to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85800" y="121932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Verdana"/>
                <a:ea typeface="SimSun"/>
              </a:rPr>
              <a:t>Starting an EQA Program at country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" y="380880"/>
            <a:ext cx="3124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7d"/>
                </a:solidFill>
                <a:latin typeface="Verdana"/>
                <a:ea typeface="SimSun"/>
              </a:rPr>
              <a:t>Summa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46BCFC-3415-4CC7-BC08-012DAEC1E2C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638680" y="2057400"/>
            <a:ext cx="33530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304920" y="609480"/>
            <a:ext cx="5181480" cy="5410080"/>
            <a:chOff x="304920" y="609480"/>
            <a:chExt cx="5181480" cy="5410080"/>
          </a:xfrm>
        </p:grpSpPr>
        <p:sp>
          <p:nvSpPr>
            <p:cNvPr id="148" name="AutoShape 4"/>
            <p:cNvSpPr/>
            <p:nvPr/>
          </p:nvSpPr>
          <p:spPr>
            <a:xfrm>
              <a:off x="3049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9"/>
            <p:cNvSpPr/>
            <p:nvPr/>
          </p:nvSpPr>
          <p:spPr>
            <a:xfrm>
              <a:off x="25495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10"/>
            <p:cNvSpPr/>
            <p:nvPr/>
          </p:nvSpPr>
          <p:spPr>
            <a:xfrm>
              <a:off x="25178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11"/>
            <p:cNvSpPr/>
            <p:nvPr/>
          </p:nvSpPr>
          <p:spPr>
            <a:xfrm>
              <a:off x="25178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12"/>
            <p:cNvSpPr/>
            <p:nvPr/>
          </p:nvSpPr>
          <p:spPr>
            <a:xfrm>
              <a:off x="27795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13"/>
            <p:cNvSpPr/>
            <p:nvPr/>
          </p:nvSpPr>
          <p:spPr>
            <a:xfrm>
              <a:off x="27795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16"/>
            <p:cNvSpPr/>
            <p:nvPr/>
          </p:nvSpPr>
          <p:spPr>
            <a:xfrm>
              <a:off x="11844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22"/>
            <p:cNvSpPr/>
            <p:nvPr/>
          </p:nvSpPr>
          <p:spPr>
            <a:xfrm>
              <a:off x="11732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24"/>
            <p:cNvSpPr/>
            <p:nvPr/>
          </p:nvSpPr>
          <p:spPr>
            <a:xfrm flipH="1" flipV="1">
              <a:off x="29588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Line 25"/>
            <p:cNvSpPr/>
            <p:nvPr/>
          </p:nvSpPr>
          <p:spPr>
            <a:xfrm flipV="1">
              <a:off x="26971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Line 27"/>
            <p:cNvSpPr/>
            <p:nvPr/>
          </p:nvSpPr>
          <p:spPr>
            <a:xfrm>
              <a:off x="44956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Line 27"/>
            <p:cNvSpPr/>
            <p:nvPr/>
          </p:nvSpPr>
          <p:spPr>
            <a:xfrm>
              <a:off x="28954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Line 27"/>
            <p:cNvSpPr/>
            <p:nvPr/>
          </p:nvSpPr>
          <p:spPr>
            <a:xfrm>
              <a:off x="12193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27"/>
            <p:cNvSpPr/>
            <p:nvPr/>
          </p:nvSpPr>
          <p:spPr>
            <a:xfrm flipH="1">
              <a:off x="9140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2" name="Group 65"/>
            <p:cNvGrpSpPr/>
            <p:nvPr/>
          </p:nvGrpSpPr>
          <p:grpSpPr>
            <a:xfrm>
              <a:off x="609480" y="702000"/>
              <a:ext cx="1261800" cy="1189800"/>
              <a:chOff x="609480" y="702000"/>
              <a:chExt cx="1261800" cy="1189800"/>
            </a:xfrm>
          </p:grpSpPr>
          <p:grpSp>
            <p:nvGrpSpPr>
              <p:cNvPr id="163" name="Group 66"/>
              <p:cNvGrpSpPr/>
              <p:nvPr/>
            </p:nvGrpSpPr>
            <p:grpSpPr>
              <a:xfrm>
                <a:off x="609480" y="702000"/>
                <a:ext cx="1239120" cy="1189800"/>
                <a:chOff x="609480" y="702000"/>
                <a:chExt cx="1239120" cy="1189800"/>
              </a:xfrm>
            </p:grpSpPr>
            <p:grpSp>
              <p:nvGrpSpPr>
                <p:cNvPr id="164" name="Group 67"/>
                <p:cNvGrpSpPr/>
                <p:nvPr/>
              </p:nvGrpSpPr>
              <p:grpSpPr>
                <a:xfrm>
                  <a:off x="660960" y="702000"/>
                  <a:ext cx="1152360" cy="1189800"/>
                  <a:chOff x="660960" y="702000"/>
                  <a:chExt cx="1152360" cy="1189800"/>
                </a:xfrm>
              </p:grpSpPr>
              <p:sp>
                <p:nvSpPr>
                  <p:cNvPr id="165" name="Freeform 68"/>
                  <p:cNvSpPr/>
                  <p:nvPr/>
                </p:nvSpPr>
                <p:spPr>
                  <a:xfrm>
                    <a:off x="6609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" name="Freeform 69"/>
                  <p:cNvSpPr/>
                  <p:nvPr/>
                </p:nvSpPr>
                <p:spPr>
                  <a:xfrm>
                    <a:off x="6609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7" name="Text Box 70"/>
                <p:cNvSpPr/>
                <p:nvPr/>
              </p:nvSpPr>
              <p:spPr>
                <a:xfrm>
                  <a:off x="6094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Text Box 71"/>
              <p:cNvSpPr/>
              <p:nvPr/>
            </p:nvSpPr>
            <p:spPr>
              <a:xfrm>
                <a:off x="6321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9" name="Group 72"/>
            <p:cNvGrpSpPr/>
            <p:nvPr/>
          </p:nvGrpSpPr>
          <p:grpSpPr>
            <a:xfrm>
              <a:off x="2265480" y="702000"/>
              <a:ext cx="1239840" cy="1189800"/>
              <a:chOff x="2265480" y="702000"/>
              <a:chExt cx="1239840" cy="1189800"/>
            </a:xfrm>
          </p:grpSpPr>
          <p:sp>
            <p:nvSpPr>
              <p:cNvPr id="170" name="Freeform 73"/>
              <p:cNvSpPr/>
              <p:nvPr/>
            </p:nvSpPr>
            <p:spPr>
              <a:xfrm>
                <a:off x="23061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Text Box 74"/>
              <p:cNvSpPr/>
              <p:nvPr/>
            </p:nvSpPr>
            <p:spPr>
              <a:xfrm>
                <a:off x="2265480" y="112392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2" name="Group 75"/>
            <p:cNvGrpSpPr/>
            <p:nvPr/>
          </p:nvGrpSpPr>
          <p:grpSpPr>
            <a:xfrm>
              <a:off x="3865680" y="702000"/>
              <a:ext cx="1239840" cy="1189800"/>
              <a:chOff x="3865680" y="702000"/>
              <a:chExt cx="1239840" cy="1189800"/>
            </a:xfrm>
          </p:grpSpPr>
          <p:grpSp>
            <p:nvGrpSpPr>
              <p:cNvPr id="173" name="Group 76"/>
              <p:cNvGrpSpPr/>
              <p:nvPr/>
            </p:nvGrpSpPr>
            <p:grpSpPr>
              <a:xfrm>
                <a:off x="3911040" y="702000"/>
                <a:ext cx="1153080" cy="1189800"/>
                <a:chOff x="3911040" y="702000"/>
                <a:chExt cx="1153080" cy="1189800"/>
              </a:xfrm>
            </p:grpSpPr>
            <p:sp>
              <p:nvSpPr>
                <p:cNvPr id="174" name="Freeform 77"/>
                <p:cNvSpPr/>
                <p:nvPr/>
              </p:nvSpPr>
              <p:spPr>
                <a:xfrm>
                  <a:off x="39110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Freeform 78"/>
                <p:cNvSpPr/>
                <p:nvPr/>
              </p:nvSpPr>
              <p:spPr>
                <a:xfrm>
                  <a:off x="39110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6" name="Text Box 79"/>
              <p:cNvSpPr/>
              <p:nvPr/>
            </p:nvSpPr>
            <p:spPr>
              <a:xfrm>
                <a:off x="38656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7" name="Line 27"/>
            <p:cNvSpPr/>
            <p:nvPr/>
          </p:nvSpPr>
          <p:spPr>
            <a:xfrm flipH="1">
              <a:off x="9903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8" name=""/>
            <p:cNvGrpSpPr/>
            <p:nvPr/>
          </p:nvGrpSpPr>
          <p:grpSpPr>
            <a:xfrm>
              <a:off x="609480" y="2041560"/>
              <a:ext cx="1241280" cy="1189440"/>
              <a:chOff x="609480" y="2041560"/>
              <a:chExt cx="1241280" cy="1189440"/>
            </a:xfrm>
          </p:grpSpPr>
          <p:sp>
            <p:nvSpPr>
              <p:cNvPr id="179" name="Freeform 46"/>
              <p:cNvSpPr/>
              <p:nvPr/>
            </p:nvSpPr>
            <p:spPr>
              <a:xfrm>
                <a:off x="6141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Text Box 47"/>
              <p:cNvSpPr/>
              <p:nvPr/>
            </p:nvSpPr>
            <p:spPr>
              <a:xfrm>
                <a:off x="6094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1" name="Freeform 31"/>
            <p:cNvSpPr/>
            <p:nvPr/>
          </p:nvSpPr>
          <p:spPr>
            <a:xfrm>
              <a:off x="23144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 Box 43"/>
            <p:cNvSpPr/>
            <p:nvPr/>
          </p:nvSpPr>
          <p:spPr>
            <a:xfrm>
              <a:off x="23544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3" name=""/>
            <p:cNvGrpSpPr/>
            <p:nvPr/>
          </p:nvGrpSpPr>
          <p:grpSpPr>
            <a:xfrm>
              <a:off x="3809880" y="2059560"/>
              <a:ext cx="1336680" cy="1189440"/>
              <a:chOff x="3809880" y="2059560"/>
              <a:chExt cx="1336680" cy="1189440"/>
            </a:xfrm>
          </p:grpSpPr>
          <p:sp>
            <p:nvSpPr>
              <p:cNvPr id="184" name="Freeform 48"/>
              <p:cNvSpPr/>
              <p:nvPr/>
            </p:nvSpPr>
            <p:spPr>
              <a:xfrm>
                <a:off x="38862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Text Box 55"/>
              <p:cNvSpPr/>
              <p:nvPr/>
            </p:nvSpPr>
            <p:spPr>
              <a:xfrm>
                <a:off x="38098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6" name="Line 27"/>
            <p:cNvSpPr/>
            <p:nvPr/>
          </p:nvSpPr>
          <p:spPr>
            <a:xfrm flipH="1">
              <a:off x="9140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7" name=""/>
            <p:cNvGrpSpPr/>
            <p:nvPr/>
          </p:nvGrpSpPr>
          <p:grpSpPr>
            <a:xfrm>
              <a:off x="609480" y="3400920"/>
              <a:ext cx="1239840" cy="1191240"/>
              <a:chOff x="609480" y="3400920"/>
              <a:chExt cx="1239840" cy="1191240"/>
            </a:xfrm>
          </p:grpSpPr>
          <p:sp>
            <p:nvSpPr>
              <p:cNvPr id="188" name="Freeform 81"/>
              <p:cNvSpPr/>
              <p:nvPr/>
            </p:nvSpPr>
            <p:spPr>
              <a:xfrm>
                <a:off x="6415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Text Box 82"/>
              <p:cNvSpPr/>
              <p:nvPr/>
            </p:nvSpPr>
            <p:spPr>
              <a:xfrm>
                <a:off x="6094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0" name=""/>
            <p:cNvGrpSpPr/>
            <p:nvPr/>
          </p:nvGrpSpPr>
          <p:grpSpPr>
            <a:xfrm>
              <a:off x="2265480" y="3400920"/>
              <a:ext cx="1239840" cy="1191240"/>
              <a:chOff x="2265480" y="3400920"/>
              <a:chExt cx="1239840" cy="1191240"/>
            </a:xfrm>
          </p:grpSpPr>
          <p:sp>
            <p:nvSpPr>
              <p:cNvPr id="191" name="Freeform 30"/>
              <p:cNvSpPr/>
              <p:nvPr/>
            </p:nvSpPr>
            <p:spPr>
              <a:xfrm>
                <a:off x="22924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Text Box 54"/>
              <p:cNvSpPr/>
              <p:nvPr/>
            </p:nvSpPr>
            <p:spPr>
              <a:xfrm>
                <a:off x="22654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3" name="Freeform 50"/>
            <p:cNvSpPr/>
            <p:nvPr/>
          </p:nvSpPr>
          <p:spPr>
            <a:xfrm>
              <a:off x="38862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Text Box 51"/>
            <p:cNvSpPr/>
            <p:nvPr/>
          </p:nvSpPr>
          <p:spPr>
            <a:xfrm>
              <a:off x="38656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Line 27"/>
            <p:cNvSpPr/>
            <p:nvPr/>
          </p:nvSpPr>
          <p:spPr>
            <a:xfrm flipH="1">
              <a:off x="9903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6" name=""/>
            <p:cNvGrpSpPr/>
            <p:nvPr/>
          </p:nvGrpSpPr>
          <p:grpSpPr>
            <a:xfrm>
              <a:off x="533520" y="4749840"/>
              <a:ext cx="1420560" cy="1189440"/>
              <a:chOff x="533520" y="4749840"/>
              <a:chExt cx="1420560" cy="1189440"/>
            </a:xfrm>
          </p:grpSpPr>
          <p:sp>
            <p:nvSpPr>
              <p:cNvPr id="197" name="Freeform 57"/>
              <p:cNvSpPr/>
              <p:nvPr/>
            </p:nvSpPr>
            <p:spPr>
              <a:xfrm>
                <a:off x="6825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Text Box 58"/>
              <p:cNvSpPr/>
              <p:nvPr/>
            </p:nvSpPr>
            <p:spPr>
              <a:xfrm>
                <a:off x="5335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9" name=""/>
            <p:cNvGrpSpPr/>
            <p:nvPr/>
          </p:nvGrpSpPr>
          <p:grpSpPr>
            <a:xfrm>
              <a:off x="2265480" y="4681800"/>
              <a:ext cx="1239840" cy="1189800"/>
              <a:chOff x="2265480" y="4681800"/>
              <a:chExt cx="1239840" cy="1189800"/>
            </a:xfrm>
          </p:grpSpPr>
          <p:sp>
            <p:nvSpPr>
              <p:cNvPr id="200" name="Freeform 34"/>
              <p:cNvSpPr/>
              <p:nvPr/>
            </p:nvSpPr>
            <p:spPr>
              <a:xfrm>
                <a:off x="23144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Text Box 61"/>
              <p:cNvSpPr/>
              <p:nvPr/>
            </p:nvSpPr>
            <p:spPr>
              <a:xfrm>
                <a:off x="22654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2" name=""/>
            <p:cNvGrpSpPr/>
            <p:nvPr/>
          </p:nvGrpSpPr>
          <p:grpSpPr>
            <a:xfrm>
              <a:off x="3886200" y="4749840"/>
              <a:ext cx="1239840" cy="1189440"/>
              <a:chOff x="3886200" y="4749840"/>
              <a:chExt cx="1239840" cy="1189440"/>
            </a:xfrm>
          </p:grpSpPr>
          <p:sp>
            <p:nvSpPr>
              <p:cNvPr id="203" name="Freeform 63"/>
              <p:cNvSpPr/>
              <p:nvPr/>
            </p:nvSpPr>
            <p:spPr>
              <a:xfrm>
                <a:off x="39052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Text Box 64"/>
              <p:cNvSpPr/>
              <p:nvPr/>
            </p:nvSpPr>
            <p:spPr>
              <a:xfrm>
                <a:off x="38862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B6F8B8-ABD4-45E9-A0FB-172EF495AB48}" type="slidenum">
              <a:t>13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EQA Op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88390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ational proficiency testing sche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etwork of laboratories – interlaboratory comparisons/rechec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+/- on-site evalu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680E24-12B6-4E77-B75E-77AE11C6C82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Prior Participation (and Success!) in a PT sche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8229600" cy="40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  <a:ea typeface="SimSun"/>
              </a:rPr>
              <a:t>need to subscribe to a foreign sche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monitor its own qu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imperative and oblig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a question of confid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1FD75A-D814-431A-A1AF-C6252C2314A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Involve the Author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120" y="14475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guarantees </a:t>
            </a:r>
            <a:r>
              <a:rPr b="0" lang="en-GB" sz="3200" spc="-1" strike="noStrike">
                <a:solidFill>
                  <a:srgbClr val="ff0066"/>
                </a:solidFill>
                <a:latin typeface="Verdana"/>
                <a:ea typeface="SimSun"/>
              </a:rPr>
              <a:t>dur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tied to the institution’s mand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means of commun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liaise with operating licensing / certification / accreditation / national regul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funding (EQA activities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create savings,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funding them is worth i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400800" y="3962520"/>
            <a:ext cx="2133720" cy="2119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6BB29B-C72D-4CB9-AC1F-6D400171564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Start Simp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Proficiency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slides, stained or unstai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Gram stai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acid-fast bacilli stai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parasi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identification of bacterial strai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enteric microorganisms (</a:t>
            </a:r>
            <a:r>
              <a:rPr b="0" i="1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E. coli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, </a:t>
            </a:r>
            <a:r>
              <a:rPr b="0" i="1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Salmonella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Recheck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slides (AFB, Gram, CSF, oth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bacterial strains if materials and technical capability is present</a:t>
            </a: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 strain coll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5943600" y="2057400"/>
            <a:ext cx="2514600" cy="852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1" name=""/>
          <p:cNvSpPr/>
          <p:nvPr/>
        </p:nvSpPr>
        <p:spPr>
          <a:xfrm>
            <a:off x="4952880" y="2362320"/>
            <a:ext cx="914400" cy="457200"/>
          </a:xfrm>
          <a:custGeom>
            <a:avLst/>
            <a:gdLst>
              <a:gd name="textAreaLeft" fmla="*/ 142920 w 914400"/>
              <a:gd name="textAreaRight" fmla="*/ 800280 w 91440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8880C9-4EEB-4E7A-8AEA-CC7ABFCFF23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Start Sm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mall number of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pilot reg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verify transportation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4-5 laboratories for a test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(outside of the progra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first study with basic materials (slid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max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. 15 laboratories for the first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max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. 3 items per parcel (minimum 2 per yea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6553080" y="1600200"/>
            <a:ext cx="2151360" cy="25909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 rot="19759200">
            <a:off x="7238880" y="2209680"/>
            <a:ext cx="914400" cy="533520"/>
          </a:xfrm>
          <a:custGeom>
            <a:avLst/>
            <a:gdLst>
              <a:gd name="textAreaLeft" fmla="*/ 142920 w 914400"/>
              <a:gd name="textAreaRight" fmla="*/ 800280 w 9144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01D09C-9EED-4B52-81D5-6B01A53467A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7d"/>
                </a:solidFill>
                <a:latin typeface="Verdana"/>
                <a:ea typeface="SimSun"/>
              </a:rPr>
              <a:t>Start with Non-Contaminating Mater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73915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in the beginning, avoid: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dangerous” pathogens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contaminated se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follow national transportation la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6172200" y="1905120"/>
            <a:ext cx="2590920" cy="2288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FFF5AA-7E76-468F-B03D-B5DF6DBB662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1536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Physical nee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510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personal de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small 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communication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5105520" y="1622520"/>
            <a:ext cx="3352680" cy="2516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EC3706-C123-4CFC-AD0C-E4A992045CF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5715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participating laborato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author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scientific 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professional associ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any other with interest in EQ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6172200" y="1981080"/>
            <a:ext cx="2644920" cy="281952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6858000" y="25909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“</a:t>
            </a: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EQA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08B4BA-36AC-45A2-A4AF-3D68FF7EDA2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5:14:54Z</dcterms:created>
  <dc:creator>sharon granade</dc:creator>
  <dc:description/>
  <dc:language>en-US</dc:language>
  <cp:lastModifiedBy>Robin Barteluk</cp:lastModifiedBy>
  <dcterms:modified xsi:type="dcterms:W3CDTF">2008-11-28T02:21:01Z</dcterms:modified>
  <cp:revision>12</cp:revision>
  <dc:subject/>
  <dc:title>EQA scheme Organization optional</dc:title>
</cp:coreProperties>
</file>